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DF44-9BCB-4B00-A473-167D8F98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9D5A-3416-48BC-9C13-0CB6118E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2D8A-BB48-4C65-8E03-861D1C16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9C73-BB83-4A55-89D8-947A9D62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E2EE-55D8-4395-B792-AD4D5AB0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55F-1888-4211-8A30-0601D33E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2A5B-6FC3-4929-9AFE-6C439235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7242-65C4-4A59-B7BF-6BC1D456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2BC9-2A6A-4860-92A3-B84E633F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C01D-6E77-436A-A89C-3D1AA611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1743-271E-45A5-9B1D-BB5E9CAB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190B-39CB-45C8-8A7E-22CD092A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0214-9BC0-4E46-B34B-BE1871D70B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12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矩形 11268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1269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2291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矩形 12292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294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076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矩形 3077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1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5124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125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5126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14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6148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6149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717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7172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7173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174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175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819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8197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198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8199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92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9220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221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02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10245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0246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czjyj</cp:lastModifiedBy>
  <dcterms:modified xsi:type="dcterms:W3CDTF">2023-06-14T06:59:40Z</dcterms:modified>
  <cp:revision>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